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EB6-F3EF-43B0-9D81-F69DB179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4DE-1E68-4E60-BAE8-5A142BFD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E92332-B437-4BBA-9F54-9F0A6AA2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B1E38F-6519-412F-83B8-6635133E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41A21D-9FA5-4321-AB80-C896617A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E41E04-5256-4B77-9427-B210D775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DC0CA4-B0A9-42CB-B276-4C97A0CE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7A2546-0ACD-433A-BABA-7BC2341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11F479-E81A-4270-B2AA-07C59912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17C574-21DB-434E-B8E0-0AA4B6BD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F9B9CB-4E58-4B83-A8DB-A87516BC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C5568-A12D-4E02-BFD1-79B374DB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2B4-EDFB-4FB0-AD36-124D4085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A116D-0A23-4596-BD88-B04307FD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43505-EED1-4EE7-BABC-114338BD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C879E-D1D6-41C4-9CCD-E579B13E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F1A73-4F4F-4ECA-8703-BC8C8F4C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846B7-6484-4FE4-8356-AC5C9E55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E60E2-D615-441D-9B89-E178E6DD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601F9-B9B8-4651-B95D-4847F4B0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534A0-E61B-4AB7-B9F2-627E431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2E753-DF91-4015-A102-01BC989D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39C55-AA04-4853-BA90-69E3CAB2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A3D-2C72-413F-B270-0CE31E89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7F213-D020-4102-A617-69B2E815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0F7E-646F-4CCD-AF21-9A3B405F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AF0E-5E8D-43EC-99A7-01212E29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069-245C-422E-8477-BEB98133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DE0A-ACD5-4B6F-B58C-C81D746F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784E-594A-449C-9033-B0A9CDDF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8952-40B5-4F7E-9A18-BC582DB8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CD9F-90B7-44DF-A95E-ED4D3F7E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DAE-2425-4FE3-AC5E-AE9CF15C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4098-0A20-4544-A662-B7BA1457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6DBA-BC9C-43FE-BACF-A94C84EA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E003-1AEA-4C6E-96DD-BB16EAA2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4E19-347F-4FD6-844D-B1C1258A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EF18-174D-4B25-BC2C-50DBF395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4FA6-DBD2-4D5A-9BC6-77485DAC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38FD-E1D3-4737-991E-BC95329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62AF-5B1D-4C3B-A8B9-75F3D034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D54A-AE27-43AE-B323-45DCC384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A3B3-73F7-40F5-A5F2-A0E3A679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0E1-859E-4FC3-A804-8D8BDA42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7556-3964-4D1F-BB24-760FE5CF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CAC5-32A1-4A8C-9147-6A94A74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A338-A12F-490C-828E-3847169E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9295-CE57-4EE8-889D-21E1133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5D4B-C32D-478C-B6C7-46FFCC72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6F4A-67A3-4D1B-B059-52C2450B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65FC-FC7A-4E5F-907B-9A9E3393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8CD45-C395-4F11-B8F0-A128C551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4AAE0-EBBF-4AA0-8529-7C59DCB6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0B0FC-BA10-48B7-82A0-7B08E6A7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222-477D-44A4-93AC-5CFA4D63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4F6F3-7CE2-477F-9ACE-75A4ABAE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6B386-BAE7-454D-B034-4D67D488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07D65-9C89-4494-88DD-5B821BD0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10D7E-B563-4FCB-A179-C90A7189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E9CCE-1C66-4762-AB28-94721583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DABF4-C8D8-4891-BD70-31103A0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549A2-AFB2-43E6-A955-6895AFA7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D12003-CCCB-4BC5-9EFC-163202DE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67737-E703-4007-A95B-16DD159A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645D0-C79C-425A-B49E-511B0E5B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6E2-ABEE-477F-9A0A-B8107FD3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DC68B-92E1-4B0D-9ADA-C5BC1560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A6F36-81F5-4FC1-A9E3-DF609E8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631F-3555-46D4-B25E-F0D8D435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D8244-3305-48FD-B0D5-F74A01DF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6B7C-22BC-4CEF-B2EE-2752725C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6997C-10CA-417C-B78F-85834D35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1CFFB-15B2-4452-A766-7BED548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7F2DF-990A-4649-8885-8F0286A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47643-E83E-4BE1-90F0-E7DDD71B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D1DB-93FE-4E7B-8C49-83CD131E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5F7-6F5D-4731-94A0-7A9D84B0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62202-F495-45F1-BEA1-D3BE1C05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F61F1-1FEF-4398-8EF1-CAC1DAAB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0A6E-2757-40D8-BFD4-6E0453EC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0B5C6-44B9-4211-9BC3-A94AAD0A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B98ED-5983-42B4-95E5-C674C21A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ADD86-3956-4394-B4CC-E18ACFE3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AFBB4-4957-44F4-9506-F34A3640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1E1C-2958-4DC5-972F-B4D50117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19576-8ED9-453D-8BF7-A8BA18BA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9B103-AE81-4BAF-AF9E-4B9AE23F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F061-862A-41AE-B831-2AEA96CC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7A33A-8B7C-462A-AAED-8372B4DC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74FEE-F614-4412-8FA3-2E7F9449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B9CB-3921-4FF0-80DB-A1B531AB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B5CB0-7882-4F64-9386-B2A38454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E14E1-7742-4650-9011-D3C496F3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E23C5-A0EC-4A8A-9DDE-372F776B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34937-760B-42FC-9364-D8F6E9C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DFA8F-024E-4002-8B27-1A4F572C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85B71-CD73-4783-B9B9-BFD425D1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84A5-2660-4971-97CB-5804A6AD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CF2-31E8-4FA6-A371-F812A2B4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5C539-5190-4D38-BD53-B2EDE0A7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8D25-5232-43BD-8250-BE183C66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D56D8-5CAB-410F-AD85-80317181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4269C-9D08-44F3-80F4-93EA0D68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D93D2-B7FE-43C1-98E7-D39F0D0B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B8F523-C120-41AC-BE44-1A16944D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FD19C4-FD64-43A4-82F9-027FCE96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021266-76ED-4995-8A52-5EDB58C2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5F583C-4AD7-4701-8233-6DA49F88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14F21-9699-401D-999A-2F035286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5CE-A787-4CC1-8192-2EA0074F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E197F5-E847-4E35-B966-39253B45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9CAFD6-1007-4DD8-BB70-ADEE860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269351-DAC5-451F-A3A0-32988222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345F97-4699-4178-B051-8C791A33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BB5C7-2C8B-48CC-9325-DB07B040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C6C0E-B130-458F-806D-783782C8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61116E-B659-4AFE-BE78-D26552AF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175BDF-CA5B-4036-92ED-2AF1C5DF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23EC95-9FAA-4161-B366-AAFE55B9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6BEBBC-E316-4E32-A615-51BAB438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6092-ED6F-4CF7-A544-BBACC500C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D22-F660-4549-B8F1-4EBBE346B5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BD8F-A562-4CDC-BAB5-DE18B036F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4BA9-CB2A-4D33-8BD2-D52A34E5CE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8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8851-AA53-41B2-BE9A-4D4C627426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DF8B-64F7-45A3-9368-06003ECA63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1828-18AF-4308-9F72-118E1B9F3C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8CB6-32EA-4268-B914-43A30887F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BAF7-ACB0-4A4C-B5CA-EF48D1FBD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D9FF-AAB1-46E5-A748-CBCCB4D946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685800" y="5335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cc"/>
                </a:solidFill>
                <a:latin typeface="Times New Roman"/>
              </a:rPr>
              <a:t>ROPA  DE  LAS  ESTACI</a:t>
            </a:r>
            <a:r>
              <a:rPr b="0" lang="en-US" sz="48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Ó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76920" y="5334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Times New Roman"/>
              </a:rPr>
              <a:t>Por: Jeannette Pellegr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Primaver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52280" y="2057400"/>
            <a:ext cx="19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La muchacha es Beatriz. Beatriz lleva un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vestido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 y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los zapatos. 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El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vestido es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blanco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. Los zapatos son blancos y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beiges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. Son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elegante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867280" y="220968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Ella es Bella. Bella lleva una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falda gris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, Una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blusa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 gris y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azul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</a:rPr>
              <a:t>, Los zapatos son blanco, y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</a:rPr>
              <a:t>marr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õn. 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Son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formal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 y </a:t>
            </a:r>
            <a:r>
              <a:rPr b="1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bonita</a:t>
            </a:r>
            <a:r>
              <a:rPr b="0" lang="en-US" sz="1800" spc="-1" strike="noStrike">
                <a:solidFill>
                  <a:srgbClr val="f7d47d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Vera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15000" y="2333520"/>
            <a:ext cx="3962520" cy="452448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1295280" y="2895480"/>
            <a:ext cx="3353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la es Adelina. Adelina lleva los pantalones cortos. una blusa blanco,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aranj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mar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n, y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arill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nita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inturón beige. La pulsera plateada. Y las gafas de sol mar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ón. Adelina es cóm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Oto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ñ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19440" cy="48769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5257800" y="228600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Ella es Elena. Elena lleva una blusa,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bloso</a:t>
            </a: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antalones cortos</a:t>
            </a: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 y la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ulsera</a:t>
            </a: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. La blusa  blanco. Los pantalones cortos, pulsera, y el bloso son beige. Los zapatos son beige y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negro</a:t>
            </a:r>
            <a:r>
              <a:rPr b="0" lang="en-US" sz="1800" spc="-1" strike="noStrike">
                <a:solidFill>
                  <a:srgbClr val="feec94"/>
                </a:solidFill>
                <a:latin typeface="Times New Roman"/>
              </a:rPr>
              <a:t>. Es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ómodo</a:t>
            </a:r>
            <a:r>
              <a:rPr b="0" lang="en-US" sz="1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 y eleg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523880" y="457200"/>
            <a:ext cx="5943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 Invier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447920" y="2666880"/>
            <a:ext cx="39621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Muchacha es Lola. Lola lleva Lo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lue je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mis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intu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las zapatas. Los blue jeans son azules, camisa blanco, cint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ón es blanco, y los zapatos son marrón. Son eleg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838080" y="609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s Pija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3048120" cy="44197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523880" y="7621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Times New Roman"/>
              </a:rPr>
              <a:t>Las Pija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5905440" y="2809800"/>
            <a:ext cx="3238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El Gorr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3048120" y="2514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6095880" y="83808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4"/>
          <a:stretch/>
        </p:blipFill>
        <p:spPr>
          <a:xfrm>
            <a:off x="45720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5"/>
          <a:stretch/>
        </p:blipFill>
        <p:spPr>
          <a:xfrm>
            <a:off x="6095880" y="4114800"/>
            <a:ext cx="2324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Accesorio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3057480" cy="149544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4"/>
          <a:stretch/>
        </p:blipFill>
        <p:spPr>
          <a:xfrm>
            <a:off x="6629400" y="38862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5"/>
          <a:stretch/>
        </p:blipFill>
        <p:spPr>
          <a:xfrm>
            <a:off x="6629400" y="7621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533520" y="2971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Gaffas de s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934320" y="2209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Gaff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4191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s Ar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914400" y="6172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 Puls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866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Col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48:47Z</dcterms:created>
  <dc:creator>pellegrinijea</dc:creator>
  <dc:description/>
  <dc:language>en-US</dc:language>
  <cp:lastModifiedBy>pellegrinijea</cp:lastModifiedBy>
  <dcterms:modified xsi:type="dcterms:W3CDTF">2011-12-14T17:02:29Z</dcterms:modified>
  <cp:revision>12</cp:revision>
  <dc:subject/>
  <dc:title>Slide 1</dc:title>
</cp:coreProperties>
</file>